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10C-FD86-413F-9336-857D339F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2E0-683A-4739-8AFD-81E43FC1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BD1-4B59-4436-85FA-AC973E3F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245-9EED-43A1-92E8-D15ACD0B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C62-26EC-4735-9840-22667CA0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F8F-D4C4-4414-AB23-7F2B352B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465-159F-42CF-B6A3-D8461B4A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A1A-9160-49A0-B9BF-7C181BCC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403-0485-4550-BCB4-D40F1D4E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4FE-AD2D-4B63-8B12-36CD3A5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BF7-E578-4967-B28C-F184229E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14C-91A1-436E-A8B5-1BD60A7F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197F-A130-413E-8E09-DA34E6F319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4120" y="447840"/>
            <a:ext cx="8651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9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 the leading newspapers _______the trade tal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tween China and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reported                 B. printed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nounced                 D. pu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. The train leaves at 6:00 pm.     So I have to be 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ation_________5:40 pm at the l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until        B. after           C. by           D. 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2044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4864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81800" y="196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二）被动语态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317880" y="1108080"/>
            <a:ext cx="9818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f city noises ____ from increas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____ sh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heard even at dinne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re not kep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have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are not kep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o not kee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have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do not kee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fifth generation computers, with artifi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ce, ________and perfected now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eveloped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have develo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re being develo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ill have been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9520" y="1057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5812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40" y="152280"/>
            <a:ext cx="9100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 --- _______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ports meet might be put of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Ye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all depends on the weathe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ve been told       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ve t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m told                    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t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need one more stamp before my collection 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has completed                     B. complet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has been completed            D. is complet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Rainforests _____ and burned at such a speed that th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disappear from the earth in the near futur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cut                            B. are cu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are being cut             D. had been cut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ew suspension bridge ___ by the end of last month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has been designed           B. had been design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was designed                   D. would be de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020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3800" y="1743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246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34280" y="4791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8120" y="142920"/>
            <a:ext cx="8920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a pencil is partly in a glass of water, it looks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breaks                    B. has brok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were broken          D. had been brok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Great changes ___ in the city, and a lot of factories 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ve been taken place; have been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B. have taken place; have been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have taken place; have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D. were taken place; were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at suit _______ over 60 dollar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d costed    B. costed         C. is costed       D. co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--- Look! Everything here is under constructio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--- What’s the pretty small house that _______ for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A. is being built              B. has been buil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C. is built                        D. is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10200" y="523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1440" y="1743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4600" y="3876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4432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1720" y="147600"/>
            <a:ext cx="863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.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like the material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--- Yes, it ______ very sof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A. is feeling    B. felt           C. feels       D. is fel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t is difficult for a foreigner _______ Chine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write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be written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t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 have no more letters _______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ype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ing 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typed   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ake care! Don’t drop the ink on your shirt, for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 easil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A. won’t wash out              B. won’t be washed ou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isn’t washed out              D. isn’t washing out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body noticed the thief slip into the house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ghts happened to _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be put up                   B. give 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be turned on              D.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864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43760" y="1285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60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8160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34640" y="517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800" y="0"/>
            <a:ext cx="88538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uters on the table ______ Professor Smith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belongs               B. are belonged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belongs to            D. belong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 --- What do you think of the book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---Oh, excellent. It’s worth ______ a second tim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o read     B. to be read      C. reading  D. being rea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squirrel was lucky that it just missed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tching                  B. to be cau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 being caught           D. to cat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This page needed _________ agai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being checked             B. check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 to check                       D. to be checked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 ______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times, the boy still didn’t know how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the exercis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Having taught           B. Having been tau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C. taught                         D.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67800" y="-85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44120" y="1666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0152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2520" y="38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36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7680" y="219240"/>
            <a:ext cx="8291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at time black people had no rights to vot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thern states of Ame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believed that he could achieve to that goal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ceful actions,not by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refused to standing up for a white man and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ested by the pol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ing conditions for blacks were bad and t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little jobs to employ bl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63 he gave the speech“I have a dream”,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inspired people to fight for 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68580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5680" y="6764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1600200"/>
            <a:ext cx="5335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5680" y="1971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057400"/>
            <a:ext cx="6094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276720"/>
            <a:ext cx="1219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29000" y="31910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95288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25360" y="456264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867280"/>
            <a:ext cx="53352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0" y="58579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5867280"/>
            <a:ext cx="6858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6000" y="152280"/>
            <a:ext cx="8677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on after his death,black people started enjoy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s they waited and fought for so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struggled for the right to be free in thei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which god to belie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people had to fight to be giving the right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,choose where to live,study and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ll these groups have in common is that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o be treated with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lready people wonder whether to f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rights of robots and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523880" y="914040"/>
            <a:ext cx="4572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914400"/>
            <a:ext cx="4572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3960" y="6764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657600" y="20574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3049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14800" y="1895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2004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66920" y="30384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4197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91840" y="4410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791320"/>
            <a:ext cx="1143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63080" y="578160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150920" y="914400"/>
            <a:ext cx="2666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某人关进监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发表演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当作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被法律所禁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而战，而奋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树立榜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分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受到全国的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诺贝尔和平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各个时代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信仰、信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…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表明，吐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2200" y="82872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ut…in  pris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41800" y="128592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a spee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2960" y="174312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treat…a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66840" y="22003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 forbidden by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6480" y="258120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fight fo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70680" y="3038400"/>
            <a:ext cx="27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t an examp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09280" y="341964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separate…from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40840" y="387684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sb. national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72120" y="433404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Nobel Peace Pr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41360" y="471492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of all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5040" y="517212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liev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61200" y="555300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tar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93280" y="60102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ive a voic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9440" y="804960"/>
            <a:ext cx="2417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携手；联手；合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获得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抵制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房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那时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理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乍一看；初见之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00400" y="7524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oin 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7600" y="120960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set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8280" y="159084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boycott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99120" y="2048040"/>
            <a:ext cx="30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us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5360" y="335268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 the first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18600" y="288612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ardles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7840" y="25146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om then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504720"/>
            <a:ext cx="13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-315360" y="1428840"/>
            <a:ext cx="9867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The new secretary is supposed to report to the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 soon as she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ill arrive                     B. arr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is going to arrive          D. is arr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The police found that the house________ and a lo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gs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has broken into ; has been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had broken into; had been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s been broken into;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had been broken into ;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2680" y="1895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0132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7080" y="219240"/>
            <a:ext cx="8881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 ----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ve you moved into the new hou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Not yet. The rooms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re being painted            B. are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re painted                      D. are being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 The students________ busily when Miss Brown w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o get a book she _________in the off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had written; left             B. were writing ; has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d written ; had left     D. were writing ; had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. When and where to build the new factory ________y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is not decided                 B. ar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s not decided              D. hav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. ---Do you know our town at al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No , this is the first time I ____________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as         B. have been       C. came      D. am c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297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4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53800" y="364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00960" y="540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5720" y="371520"/>
            <a:ext cx="8993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7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murderer was brought in, with his hands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hind his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being tied               B. having t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to be tied                D. t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. I can hardly imagine Zhang Jian ________acros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glish Channel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swim    B. to swim     C. swimming    D. to have sw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. John was made _______the truck for a week a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unish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to wash     B. washing     C. wash    D. to be w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. “ Can’t you read?” Mary said_________to the no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ngrily pointing         B. and poin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ngrily pointed           D. and angrily po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350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822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153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2992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280" y="295200"/>
            <a:ext cx="8980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umping out of ________ airplane at ten thousand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s quite _______exciting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/; the        B. /; an       C. an; an          D. the ;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. ----How was your recent visit to Qingda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It was great. We visited some friends, and spen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days at the sea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few last sunny              B. last few su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last sunny few                D. few sunny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3. I don’t think I’ll need any money but I’ll bring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t last       B. in case         C. once again     D.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4. We’ll have to finish the job,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long it takes however     B. it takes however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long however it takes     D. however long it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53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38440" y="2352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7560" y="4029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904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680" y="528480"/>
            <a:ext cx="8879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ou should make it a rule to leave things________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 find them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hen         B. where       C. then           D.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6. Someone called me up in the middle of the night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hung up ________I could answer the ph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s         B. since          C. before        D. u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7. Can the WTO live up to its name__________it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t include a country that is home to one fifth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ole population of the worl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s long as       B. while        C. if        D. even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8. The captain_________ an apology to the passeng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r the delay caused by bad we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made          B. said            C. put        D. pa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1160" y="447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320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4840" y="3038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040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8T07:40:41Z</dcterms:modified>
  <cp:revision>8</cp:revision>
  <dc:subject/>
  <dc:title>PowerPoint Presentation</dc:title>
</cp:coreProperties>
</file>